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CEC-8965-40FC-965A-95AB2FEE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F29-BACA-4406-A98B-D55480E0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CDDD-8EFB-4AB2-8A57-3C0EEA58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5718-BB7D-4644-A9F1-638D7768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448-D28B-4125-B1FF-393638D8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93D-9217-4F8A-8B6B-4242D891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DF2A-970C-4F8C-ADE0-F09E9290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52E9-BF62-44A0-B926-55EE6F4F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FD3-FC8F-4A4F-AF92-AAEB3DB8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089-5FA7-4071-82DC-3850A04A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7FFC-F7B3-44D1-B7E6-B2EAC83A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C145-65AF-4198-9835-DF96C7FE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E015-817B-490A-9773-3AE65D954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-DE Wor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5200" y="1447920"/>
            <a:ext cx="8633880" cy="5016240"/>
            <a:chOff x="385200" y="1447920"/>
            <a:chExt cx="8633880" cy="5016240"/>
          </a:xfrm>
        </p:grpSpPr>
        <p:sp>
          <p:nvSpPr>
            <p:cNvPr id="43" name=""/>
            <p:cNvSpPr/>
            <p:nvPr/>
          </p:nvSpPr>
          <p:spPr>
            <a:xfrm>
              <a:off x="434340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5200" y="4724280"/>
              <a:ext cx="17535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rom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358440" y="1981080"/>
              <a:ext cx="563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8120" y="2209680"/>
              <a:ext cx="8161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n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66880" y="4572000"/>
              <a:ext cx="3200400" cy="642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55000" y="4572000"/>
              <a:ext cx="8665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ubl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7520" y="3886200"/>
              <a:ext cx="13572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w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1200" y="5562720"/>
              <a:ext cx="1421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n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28195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2520" y="22096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62520" y="2362320"/>
              <a:ext cx="380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06360" y="4572000"/>
              <a:ext cx="15127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66880" y="6095880"/>
              <a:ext cx="320040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d Domain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33720" y="411480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95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2133360" y="579132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133720" y="502920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67280" y="4800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86600" y="4800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657600" y="23623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88620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886200" y="23619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41148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33920" y="38862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91800" y="1447920"/>
              <a:ext cx="7538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29280" y="5486400"/>
              <a:ext cx="1688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 or Save 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91120" y="5181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91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962520" y="175212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1008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1500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38680" y="411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4480" y="373392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522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1:01:04Z</dcterms:created>
  <dc:creator>AIAI</dc:creator>
  <dc:description/>
  <dc:language>en-US</dc:language>
  <cp:lastModifiedBy>AIAI</cp:lastModifiedBy>
  <dcterms:modified xsi:type="dcterms:W3CDTF">2002-03-22T11:16:23Z</dcterms:modified>
  <cp:revision>2</cp:revision>
  <dc:subject/>
  <dc:title>I-DE Workflow</dc:title>
</cp:coreProperties>
</file>