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225-73E1-4F44-A476-874FDB5A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938-9D80-4E62-BAC3-946C1A68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1E4-C08C-452B-A340-A8BF49DB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1E0-A69A-4570-9CF2-D5B3F479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1C8-970E-4852-8C25-B02D4006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E93-E34E-4166-B75C-3821DD02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651-B985-4AC3-B946-287F6648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E97-9498-4529-8AA2-4B0340F6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F37-1580-4E3A-AF1A-70304AC5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57D-5A67-4DFF-A2C6-69DF0737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4D8-E1D8-4F9F-9957-7FAF74BE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863-AD38-48F4-B802-43BC2064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1040-FA74-4B62-9566-B5803A9A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490920" y="479520"/>
            <a:ext cx="2160000" cy="2948040"/>
            <a:chOff x="3490920" y="479520"/>
            <a:chExt cx="2160000" cy="2948040"/>
          </a:xfrm>
        </p:grpSpPr>
        <p:grpSp>
          <p:nvGrpSpPr>
            <p:cNvPr id="43" name=""/>
            <p:cNvGrpSpPr/>
            <p:nvPr/>
          </p:nvGrpSpPr>
          <p:grpSpPr>
            <a:xfrm>
              <a:off x="3490920" y="666360"/>
              <a:ext cx="2160000" cy="2761200"/>
              <a:chOff x="3490920" y="666360"/>
              <a:chExt cx="2160000" cy="2761200"/>
            </a:xfrm>
          </p:grpSpPr>
          <p:sp>
            <p:nvSpPr>
              <p:cNvPr id="44" name=""/>
              <p:cNvSpPr/>
              <p:nvPr/>
            </p:nvSpPr>
            <p:spPr>
              <a:xfrm rot="16200000">
                <a:off x="4449600" y="17172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3714120" y="102600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055480" y="102636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4979880" y="66600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52480" y="78840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3490920" y="126612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4244400" y="479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437080" y="8380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72360" y="1920960"/>
            <a:ext cx="2159640" cy="2948040"/>
            <a:chOff x="6372360" y="1920960"/>
            <a:chExt cx="2159640" cy="2948040"/>
          </a:xfrm>
        </p:grpSpPr>
        <p:grpSp>
          <p:nvGrpSpPr>
            <p:cNvPr id="53" name=""/>
            <p:cNvGrpSpPr/>
            <p:nvPr/>
          </p:nvGrpSpPr>
          <p:grpSpPr>
            <a:xfrm>
              <a:off x="6372360" y="2107800"/>
              <a:ext cx="2159640" cy="2761200"/>
              <a:chOff x="6372360" y="2107800"/>
              <a:chExt cx="2159640" cy="2761200"/>
            </a:xfrm>
          </p:grpSpPr>
          <p:sp>
            <p:nvSpPr>
              <p:cNvPr id="54" name=""/>
              <p:cNvSpPr/>
              <p:nvPr/>
            </p:nvSpPr>
            <p:spPr>
              <a:xfrm rot="16200000">
                <a:off x="7331040" y="161316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6595560" y="246744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936560" y="246780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7860960" y="210744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33560" y="222984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6372360" y="270756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712584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780000" y="6093000"/>
            <a:ext cx="1584000" cy="21564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393372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2278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10526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249408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2200" y="3933720"/>
            <a:ext cx="2174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37372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21300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62560" y="5372280"/>
            <a:ext cx="217440" cy="217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321300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640" y="1920960"/>
            <a:ext cx="2159640" cy="2948040"/>
            <a:chOff x="611640" y="1920960"/>
            <a:chExt cx="2159640" cy="2948040"/>
          </a:xfrm>
        </p:grpSpPr>
        <p:grpSp>
          <p:nvGrpSpPr>
            <p:cNvPr id="74" name=""/>
            <p:cNvGrpSpPr/>
            <p:nvPr/>
          </p:nvGrpSpPr>
          <p:grpSpPr>
            <a:xfrm>
              <a:off x="611640" y="2109600"/>
              <a:ext cx="2159640" cy="2759400"/>
              <a:chOff x="611640" y="2109600"/>
              <a:chExt cx="2159640" cy="2759400"/>
            </a:xfrm>
          </p:grpSpPr>
          <p:sp>
            <p:nvSpPr>
              <p:cNvPr id="75" name=""/>
              <p:cNvSpPr/>
              <p:nvPr/>
            </p:nvSpPr>
            <p:spPr>
              <a:xfrm flipH="1" rot="5400000">
                <a:off x="1571760" y="1614600"/>
                <a:ext cx="24012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2548080" y="2469240"/>
                <a:ext cx="0" cy="35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058040" y="2469240"/>
                <a:ext cx="149040" cy="23997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983880" y="2109240"/>
                <a:ext cx="298440" cy="71892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8920"/>
                  <a:gd name="textAreaBottom" fmla="*/ 56088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11280" y="2231280"/>
                <a:ext cx="298440" cy="478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324880" y="270900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H="1">
              <a:off x="127728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684360" y="2278080"/>
            <a:ext cx="1425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83640" y="2494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8160" y="488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492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85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490920" y="479520"/>
            <a:ext cx="2160000" cy="2948040"/>
            <a:chOff x="3490920" y="479520"/>
            <a:chExt cx="2160000" cy="2948040"/>
          </a:xfrm>
        </p:grpSpPr>
        <p:grpSp>
          <p:nvGrpSpPr>
            <p:cNvPr id="88" name=""/>
            <p:cNvGrpSpPr/>
            <p:nvPr/>
          </p:nvGrpSpPr>
          <p:grpSpPr>
            <a:xfrm>
              <a:off x="3490920" y="666360"/>
              <a:ext cx="2160000" cy="2761200"/>
              <a:chOff x="3490920" y="666360"/>
              <a:chExt cx="2160000" cy="2761200"/>
            </a:xfrm>
          </p:grpSpPr>
          <p:sp>
            <p:nvSpPr>
              <p:cNvPr id="89" name=""/>
              <p:cNvSpPr/>
              <p:nvPr/>
            </p:nvSpPr>
            <p:spPr>
              <a:xfrm rot="16200000">
                <a:off x="4449600" y="17172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3714120" y="102600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55480" y="102636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4979880" y="66600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52480" y="78840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490920" y="126612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244400" y="479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37080" y="8380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372360" y="1920960"/>
            <a:ext cx="2159640" cy="2948040"/>
            <a:chOff x="6372360" y="1920960"/>
            <a:chExt cx="2159640" cy="2948040"/>
          </a:xfrm>
        </p:grpSpPr>
        <p:grpSp>
          <p:nvGrpSpPr>
            <p:cNvPr id="98" name=""/>
            <p:cNvGrpSpPr/>
            <p:nvPr/>
          </p:nvGrpSpPr>
          <p:grpSpPr>
            <a:xfrm>
              <a:off x="6372360" y="2107800"/>
              <a:ext cx="2159640" cy="2761200"/>
              <a:chOff x="6372360" y="2107800"/>
              <a:chExt cx="2159640" cy="2761200"/>
            </a:xfrm>
          </p:grpSpPr>
          <p:sp>
            <p:nvSpPr>
              <p:cNvPr id="99" name=""/>
              <p:cNvSpPr/>
              <p:nvPr/>
            </p:nvSpPr>
            <p:spPr>
              <a:xfrm rot="16200000">
                <a:off x="7331040" y="1613160"/>
                <a:ext cx="24048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595560" y="2467440"/>
                <a:ext cx="0" cy="35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36560" y="2467800"/>
                <a:ext cx="149040" cy="24012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7860960" y="2107440"/>
                <a:ext cx="298440" cy="71964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9640"/>
                  <a:gd name="textAreaBottom" fmla="*/ 561600 h 7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33560" y="2229840"/>
                <a:ext cx="298440" cy="478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372360" y="270756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12584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780000" y="6093000"/>
            <a:ext cx="1584000" cy="21564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4653000"/>
            <a:ext cx="158436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21300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2278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105264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17080" y="249408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2200" y="3213000"/>
            <a:ext cx="2174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3933720"/>
            <a:ext cx="144000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3933720"/>
            <a:ext cx="1439640" cy="7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2200" y="3932280"/>
            <a:ext cx="217440" cy="217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393372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1640" y="1920960"/>
            <a:ext cx="2159640" cy="2948040"/>
            <a:chOff x="611640" y="1920960"/>
            <a:chExt cx="2159640" cy="2948040"/>
          </a:xfrm>
        </p:grpSpPr>
        <p:grpSp>
          <p:nvGrpSpPr>
            <p:cNvPr id="119" name=""/>
            <p:cNvGrpSpPr/>
            <p:nvPr/>
          </p:nvGrpSpPr>
          <p:grpSpPr>
            <a:xfrm>
              <a:off x="611640" y="2109600"/>
              <a:ext cx="2159640" cy="2759400"/>
              <a:chOff x="611640" y="2109600"/>
              <a:chExt cx="2159640" cy="2759400"/>
            </a:xfrm>
          </p:grpSpPr>
          <p:sp>
            <p:nvSpPr>
              <p:cNvPr id="120" name=""/>
              <p:cNvSpPr/>
              <p:nvPr/>
            </p:nvSpPr>
            <p:spPr>
              <a:xfrm flipH="1" rot="5400000">
                <a:off x="1571760" y="1614600"/>
                <a:ext cx="240120" cy="171180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548080" y="2469240"/>
                <a:ext cx="0" cy="35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058040" y="2469240"/>
                <a:ext cx="149040" cy="23997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983880" y="2109240"/>
                <a:ext cx="298440" cy="718920"/>
              </a:xfrm>
              <a:custGeom>
                <a:avLst/>
                <a:gdLst>
                  <a:gd name="textAreaLeft" fmla="*/ 65520 w 298440"/>
                  <a:gd name="textAreaRight" fmla="*/ 232920 w 298440"/>
                  <a:gd name="textAreaTop" fmla="*/ 158040 h 718920"/>
                  <a:gd name="textAreaBottom" fmla="*/ 56088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11280" y="2231280"/>
                <a:ext cx="298440" cy="478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2324880" y="2709000"/>
                <a:ext cx="446400" cy="119160"/>
              </a:xfrm>
              <a:custGeom>
                <a:avLst/>
                <a:gdLst>
                  <a:gd name="textAreaLeft" fmla="*/ 97920 w 446400"/>
                  <a:gd name="textAreaRight" fmla="*/ 348480 w 446400"/>
                  <a:gd name="textAreaTop" fmla="*/ 26280 h 119160"/>
                  <a:gd name="textAreaBottom" fmla="*/ 9288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1277280" y="1920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684360" y="2278080"/>
            <a:ext cx="1425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83640" y="2494080"/>
            <a:ext cx="144360" cy="142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8160" y="488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5492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85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3:47:11Z</dcterms:created>
  <dc:creator> AIAI</dc:creator>
  <dc:description/>
  <dc:language>en-US</dc:language>
  <cp:lastModifiedBy> AIAI</cp:lastModifiedBy>
  <dcterms:modified xsi:type="dcterms:W3CDTF">2008-08-07T16:34:59Z</dcterms:modified>
  <cp:revision>4</cp:revision>
  <dc:subject/>
  <dc:title>Slide 1</dc:title>
</cp:coreProperties>
</file>