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9a9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6705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2640" y="3792240"/>
            <a:ext cx="6705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9a9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8840" y="15235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2640" y="37922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78840" y="37922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9a9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09920" y="15235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7200" y="15235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2640" y="37922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09920" y="37922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77200" y="37922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9a9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2640" y="152352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9a9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9a9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78840" y="15235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9a9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9a9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8840" y="15235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2640" y="37922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9a9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8840" y="15235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8840" y="37922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9a9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8840" y="15235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2640" y="3792240"/>
            <a:ext cx="6705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04080" cy="5853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42640" y="152352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529a94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529a94"/>
              </a:buClr>
              <a:buSzPct val="59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9a9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9a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5867280" y="4724280"/>
            <a:ext cx="228600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219320" y="1371600"/>
            <a:ext cx="2819160" cy="495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4724280"/>
            <a:ext cx="236232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3517920"/>
            <a:ext cx="19051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31960" y="2320920"/>
            <a:ext cx="19051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75360" y="2320920"/>
            <a:ext cx="20779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7240" y="24368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-X Process 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6600" y="24368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-X Process 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3580560"/>
            <a:ext cx="155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PM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43920" y="13716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39960" y="13716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960" y="213372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51460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876920"/>
            <a:ext cx="16002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A-FBPML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80280" y="4800600"/>
            <a:ext cx="12189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traint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5486400"/>
            <a:ext cx="167652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ial Domain Ontology (te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0240" y="5105520"/>
            <a:ext cx="9928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3"/>
            <a:endCxn id="55" idx="1"/>
          </p:cNvCxnSpPr>
          <p:nvPr/>
        </p:nvCxnSpPr>
        <p:spPr>
          <a:xfrm>
            <a:off x="3429000" y="5167080"/>
            <a:ext cx="921600" cy="228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7" name=""/>
          <p:cNvSpPr/>
          <p:nvPr/>
        </p:nvSpPr>
        <p:spPr>
          <a:xfrm flipV="1">
            <a:off x="3505320" y="5486040"/>
            <a:ext cx="8380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332320" y="4951440"/>
            <a:ext cx="10670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331960" y="5408280"/>
            <a:ext cx="839880" cy="2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68760" y="4038480"/>
            <a:ext cx="8834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 P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3517920"/>
            <a:ext cx="11430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5035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PM -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6360" y="4038480"/>
            <a:ext cx="8834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 P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66880" y="3123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324480" y="3123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7720" y="2841480"/>
            <a:ext cx="8146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 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80040" y="2841480"/>
            <a:ext cx="8146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 I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43828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657240" y="25909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9320" y="2793960"/>
            <a:ext cx="75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990720" y="3048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28195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657240" y="2971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4320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47712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52280" y="4570560"/>
            <a:ext cx="8839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65000" y="3584520"/>
            <a:ext cx="112104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strai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9880" y="4651200"/>
            <a:ext cx="91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2360" y="318456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432900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5562720"/>
            <a:ext cx="167652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ial Domain Ontology (s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371600"/>
            <a:ext cx="2819520" cy="495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6400" y="419400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rmatics</cp:lastModifiedBy>
  <dcterms:modified xsi:type="dcterms:W3CDTF">2004-03-08T17:36:19Z</dcterms:modified>
  <cp:revision>1059</cp:revision>
  <dc:subject/>
  <dc:title>PowerPoint Presentation</dc:title>
</cp:coreProperties>
</file>